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81C0-F77A-4246-99F8-0A8DA40EF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56CD-BE29-4259-99F7-FA5057764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BF93-1F29-4FB9-BCF1-8DC3A859F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29A6-3B43-4FE9-BEA1-FDA8EF0B4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2CE1-403C-4A26-828E-866CC0B64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9D95-2F64-468C-81F3-01EF2933F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1E75-7561-4DD2-A869-20D4E7D5B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49D9-3E45-4A3C-98D3-DA85C6DDA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4C0D-3393-4EF3-A2D6-B55121AA9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793B-9BE3-4641-A733-0A5207712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5099-2414-47D1-AF56-25D42D94C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1DC7-212D-4155-9E3B-ABE747F01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8056D-6672-417F-87CA-FB5ECCF8245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00:59:46Z</dcterms:created>
  <dc:creator>Administrator</dc:creator>
  <dc:description/>
  <dc:language>en-US</dc:language>
  <cp:lastModifiedBy>Administrator</cp:lastModifiedBy>
  <dcterms:modified xsi:type="dcterms:W3CDTF">2015-04-21T01:00:09Z</dcterms:modified>
  <cp:revision>1</cp:revision>
  <dc:subject/>
  <dc:title/>
</cp:coreProperties>
</file>